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A48-4678-465C-8D9A-4E7D9181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D72-33A2-4CD4-AED3-997DE662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A58-2585-42FB-A532-5EA28DEC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222-088F-49C6-BEB2-D42003FC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9EC-6A26-4710-83B3-F3A55423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3D3-79D7-46B3-B167-CFDB7239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E4D-4067-4CAA-8F23-53634DE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9CD-9E5E-448D-B38D-186AE9C8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7BC-8976-4AF4-B5EA-CAB1900A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826-23B7-4686-B0F5-77EE7CC9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E69-F385-49E4-965A-CE4099A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B7C-AAFE-48E9-BE27-1FB1DCD9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F8B0-AA77-4B67-AB7E-FD96534E59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wyjs.edu.cn/20020812/3063983.s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097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174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四光，中国地质事业的奠基者和领导人。他毕生从事地质科学的研究和教育事业，成就卓著，蜚声海内外，是我国冰川学研究的奠基人。他独创的地质力学理论，为我国的地质、石油勘探和建设事业做出了巨大贡献。</a:t>
            </a:r>
            <a:r>
              <a:rPr b="1" lang="zh-CN" sz="3600" spc="-1" strike="noStrike">
                <a:solidFill>
                  <a:srgbClr val="f3f6fa"/>
                </a:solidFill>
                <a:latin typeface="楷体_GB2312"/>
                <a:ea typeface="楷体_GB2312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258200" y="177840"/>
            <a:ext cx="1054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坑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藏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考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秦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域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遗    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6680" y="2955960"/>
            <a:ext cx="810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著   悄  闪  卧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推   旅  纪  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52280" y="392040"/>
            <a:ext cx="347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思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奇怪的大石头，“怪”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9040" y="2863800"/>
            <a:ext cx="200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李四光是如何思考和解决自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问题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" y="453960"/>
            <a:ext cx="90676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陨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大的流星在经过地球大气层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完全烧毁坠落到地球上的含石质较多或全部为石质的陨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地质学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从事地球物质形成和地壳构造研究，以探讨地球的形成和发展的科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突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高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76320" y="304920"/>
            <a:ext cx="929664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第四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地质历史的最后一个纪。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距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年前至今。此时高纬度地区广泛地发生了多次冰川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秦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横贯我国中部，东西走向的古老褶皱断层山脉。我国地理上的南北分解线。分布有冰川槽谷、角峰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4572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冰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高山或两极地区，积雪由于自身的压力变成冰块（或积雪融化、下渗冻结成冰块），又因重力作用而沿着地面倾斜方面移动，这种移动的大冰块叫做冰川。在地质上的新生代第四纪，气候非常寒冷，世界上的许多地方被冰川覆盖，称第四纪冰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41720" y="598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冰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52040" y="58514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科学家拍摄到的海上冰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29720" y="57913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纪冰川遗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541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43320" y="575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古拉山冰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52280"/>
            <a:ext cx="9448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怪  著名  悄悄  躲闪 兴趣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历史  平整  旅行  专门 考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岭  遗迹  研究  成果 震惊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卧室 土坑  推测   世纪  纪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质学家     严严实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捉迷藏        转来转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2:08Z</dcterms:created>
  <dc:creator>a</dc:creator>
  <dc:description/>
  <dc:language>en-US</dc:language>
  <cp:lastModifiedBy>Sunshine</cp:lastModifiedBy>
  <dcterms:modified xsi:type="dcterms:W3CDTF">2006-05-08T21:49:38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2000000000001024120</vt:lpwstr>
  </property>
</Properties>
</file>